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647-7E7F-4FCA-9882-6D2A0D6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280-38F8-43F5-9EB9-B8D3600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F5154-081A-4642-A24A-B094D257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CE43-26D2-4BDA-9A55-ACD9FDE0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FC08-CACF-470E-8956-5D1CFC2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7E66E-C8DE-4296-9464-5D229C5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8B630-6289-4496-84FA-2813A12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A2F24-6ACC-40D9-998B-1F719DD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87D32-2493-465D-A223-585E2088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4C236-653E-437D-A00A-9FE7224A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5CE5D-87C4-44BD-AECF-8A00F8ED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3186F-EAF8-4EF5-B196-8F864E33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E00-1F99-4AB1-8DC1-36A73E98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AE48A-C218-43DB-A50C-48D4C84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76CFB-881F-46E0-B7FD-6F6D82B5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10FF3-9290-4991-A010-A4F5B1B1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9013-4AC8-422A-900B-AF22F0B3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9DF36-172D-4F38-9384-617D1EC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21E14-EDBE-4349-A1D7-BBC58CB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91FAB-D503-46AE-ADA3-73A7DDD0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577EB-6E84-452A-B7B2-D7876F81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6B746-3D18-457F-9DA5-320989A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19BBF-A637-4354-A6C3-58F26BD6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013-A6E8-43EE-AD35-5CE3D1CB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0453A-5FBE-4842-8474-7336D097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00749-B9E1-461C-A819-068B4AE7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A8BF9-4152-4AE2-850A-C7C9159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CB891-3376-4629-BB9F-87F0336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ECA2B-518D-4F1B-9737-B8FBFCC9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47F02-1E72-48D4-AB2D-DC8A99DF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5F23C-0A80-43A3-B10A-2C46AAF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43922-4B7E-47D8-A634-BFB15952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1972C-8DF1-4F88-8954-E1D6A2F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6832-E579-4D94-97E2-DE08631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94DC-12F3-4E58-BE37-E7AEAF3F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7EDC4-3EFE-4743-BD0E-31AD866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A7E6-A55F-4933-B13E-8DC3CB7D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29FF4-A909-48D9-A45E-DD519BD4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DF118-A346-4D8E-BAE1-4934C433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171E1-FF32-40FA-97F5-EE4135E2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E3E1F-E136-48EA-9791-4AD2C2D5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FE57B-0A6D-4174-B502-B8E7CD4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F8EEB-15A1-4D63-8BE4-D910D9D1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5DD96-9C8F-4CE7-80CC-76A6A3E0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B1AA8-25F6-4A5F-BE16-E2A5D35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9B9-4FC4-48A3-B7A1-8B970A22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D33E7-5777-41E7-97F3-D29B802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F3F19-A856-40B5-A471-7DFB7F9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EB55E-253E-4154-BED1-E4B3775B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10844-193F-407E-AE29-3980D1C5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99F28-9087-4748-9DD1-DAEAA449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6E778-484C-4E2E-A5CB-F0243DBD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B7FEA-BB84-4429-9B27-4EE805E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40D5E-260D-436A-9E4A-A136B57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4E213-DB41-4C34-A784-9A5407A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65ABE-6ABD-44DE-B14C-03AAB05D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32E3-028E-4D43-90B7-75083F1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99095-8FC3-48B7-BA21-72102E3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36F9-6F6C-425A-94FD-82FA742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BDD9C-0BCA-4C3A-B617-90695ED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2A8F0-63B0-4D0A-A8B7-C8EB2B5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6EEC1-D5B3-403F-B36D-C15B6CF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617C4-147A-4906-B742-C1212935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527EB-C469-4B2F-9A9B-59DC6017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F200A-8D6D-4183-B831-00646F3F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DDC91-DFF2-43FF-BC93-DD1C613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F1D97-E8F0-47FF-B31F-EBD791AC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0A34-D4CB-499B-8E26-075B4B2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DFEB9-DD90-47AA-8008-550F8ECD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0778E-74C4-47F9-B1AE-8B16CEE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6162E-A9AA-4273-A11F-42CC903B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B5691-3B48-4D9E-B51A-2270A1E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425F1-8C20-415A-9286-F60576A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E8896-4B42-40B2-A5C9-9FAE442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FF6AA-85BB-48B4-AE6A-20793B2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33E79-D005-40FC-875A-902BEF39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FD2F5-525E-44CE-8404-66139739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05811-F8B8-48EE-AAEE-171D1D6A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306B-45C4-4847-9C83-193E198C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7ADCF-6A75-46F2-87D3-37DE1E8B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0427A-5CCA-41A5-B33E-F6B62590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3E410-69AB-42AA-9051-04B5AF8A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F0D70-BDCF-45F3-8ABF-1DB8007C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98E80-D1E3-4B09-864F-6E2CD3EA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FD4EA-F969-4A4B-BD1B-AE28340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A08F9-9012-42D6-8FA6-D06BE04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A2D68-47BB-412D-A943-893A8AE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27D44-2569-4DA3-85DA-281A783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E56DB-D29D-456A-981C-17A1B9ED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FC6-99B6-4895-B2D4-12424398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F69E6-66F8-4157-A1AE-C61FD58A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2FE06-F7CF-4CB1-B0FA-CBC086DF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09087-85CC-4407-9770-FA8DE96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C0CA1-9FB7-4259-9C14-D7AAD8DE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7ACC7-22F8-4CEC-8143-5460DD55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885EF-A3F8-4600-B3F5-568DF633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1251C-FE9E-41A0-9029-EF98A9A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6B3FA3-A00B-434D-A116-19ED6B0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E94C0-B028-4CC9-89AA-0BE9251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20BCC-07A7-4959-83BD-3D243F0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D36-5081-4D55-9651-A284E56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E05D4-A872-42DE-B1BA-5DD7B5F3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D9494-801D-4FC8-9522-4D0A783A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B5158-E30F-4991-A3F5-A8B70CD8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65E35-AACB-4DCE-B12F-EE06B9D9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C3BE2-51EC-45F4-B375-93EF859B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327F2-540E-49D1-87C0-6899F00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0B3DD-85FA-4D5D-BD5B-5D7989A7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078F3A-23BC-4D12-9918-6E785B3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EBDD4-632C-43B5-84FE-C2F3925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A342B-B26F-4CF3-A57A-73C41B3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29A-21DF-4D95-B948-F6D2FD2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DD8-231F-4D2B-A2C4-73D36025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2776D-60D3-40F4-9371-0934B6D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FFB11-8713-4B78-852C-8B3A90C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FD2D6-0E07-4F1F-A4D7-AAB6A354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1BFD1-FF29-4DC5-8017-7C944928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C5F45-CD2C-4D21-B477-DA11C088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67245-55B1-4B28-A064-8A6230E0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B3DEE-CD3E-4968-8641-E1B00A9C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83A2F-9535-43AE-8A94-887669DD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A00A1-03EA-4487-9198-A6C066A5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E57E5-42B0-4322-A8A4-BF72BB3D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246B-B4C3-44F5-B89E-B514CE35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F1664-552F-4AE1-9FC3-CA1D674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931FA-10D4-4846-9A04-248E9C4E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27AE7-9107-456A-8A7A-61FCDDE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EFCCC-E476-47F3-A751-F60885B6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C5114-0514-4274-BD71-5E1BA824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3F7BF-5971-4DFD-9B04-24D1A8C1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0965E-168D-4AEB-83DD-CD32A5C8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BD2C9F-8255-470E-948B-11C6A1F0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82E8B-CA92-4D7E-A658-B1C4669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11734-FC0A-4A2A-87AE-2F0E415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1CFA-CE83-4B94-903F-A97B2E4C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394EC-0482-416E-86EB-D122418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9660F-B149-4412-B05A-CCC799FF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1F1A9-8AAB-4A88-9038-D479308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B1FE1-B4DE-4B4F-99A7-A6CE6B78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13507-3AEE-4CA7-AB6E-27678D7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90DD1-1CA0-4DAD-B3AB-490B2A9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14A67-EA3F-49F5-A5B7-20C28C0C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4BAAC-9F5A-4B35-B8FF-E215875D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157B2-64E5-40E2-B732-EB04E1E2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224B6-1AC6-40B5-A9F8-63B3787C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02F-CCDB-47C4-8646-FB2E9835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CCAD0-13B2-47D9-BD66-EB4292B0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C5656-E782-40E3-BEDD-042594E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6D872-7153-484B-A8FE-5CEB53ED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FDE16-01F8-4E96-91F4-FE5D202D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55013-3DA1-4621-BB49-AA410876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E4B85D-200F-4931-A6B9-B1B84321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2C3FB-84CD-41E3-A2FD-C28DE7F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88169-2CDD-4C36-9CEC-CBDBF723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E6885-7C0F-4402-B6FD-5B219C9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EE056-0A01-49A0-B671-236A43DF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8F37-93DC-42AC-AD03-C46B9021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86613-D5BD-485D-9910-50BF93B4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B05DBF-4071-43E0-BA1D-B34D6E59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49593B-924F-424F-8D51-EFB75D38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5E004-98BB-4553-824A-2D158EE1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75CDB7-212B-42EB-89E3-2316759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EA1F6-0324-484A-9344-6F49E9C6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9E0A7-E947-4F77-8D52-63DE636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69A77-DAFD-4EEA-A6D3-4710F653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4299C-5589-4D04-89AF-1CF4AAD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6B1B1-5555-4E4E-8A6E-D31E37A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D4EF-F899-43AB-9721-A56F411C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E5B36-C9AC-4EE9-99E3-4832247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6D55A-30CF-4582-A0D1-81D1C687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1CB5D-B334-432C-83DD-4853EC68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3894-D205-4C51-A521-9D508C4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5B49-43A9-42BA-99F6-5CE80F3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662C-605B-4BE0-8263-51AC171F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B11F-D0C1-4E47-BB8B-E766D8DB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27A-FD36-46BB-8C43-4D44EC43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FA60-40D0-4FC6-B6E4-463AEDF5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8E26-18F7-4FD4-94E9-04222324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1B04-A549-4946-948D-E3845AE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36C6-2F37-4FBB-BD85-FA06B6A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23C7-7C4D-411C-9272-450C5971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0B82-BB9B-4ECF-9EA7-0F567E9C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6131-43BB-4E4B-9874-ACCF714A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925D-EBE3-4FBE-A135-A9F6B25E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019F-B4FD-493B-B9F0-24FFF0A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3EF1-6B94-4E3A-B71A-A8696C5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B4C-0757-4483-8BD4-D9AF547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BE252-7A18-4D49-84FE-F67840CF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5C2ED-CD68-4364-BB7A-57E1BDF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C246-1939-4AF1-BA74-BEE03C2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E821-DFFD-4CE6-ACEF-725B616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2909-9E2F-4211-AB19-288013E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EA74D-9F83-4EA5-95E6-73306EA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C622-D4B8-466E-8957-1C0742DC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6C94-61BA-43ED-B22F-DFDF2EAA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3154-A73D-4870-8EB8-D29540CA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75043-EA87-4E8F-A4A4-E328A9FB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EE5-D0F4-4E9C-8007-EE4D63A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B3684-D3B9-4B34-8302-9491E19F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926E-78F0-4B95-9C22-72ACE00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6DC27-2953-4A06-9A09-FC282090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2147-FF54-4693-8C9B-BABC320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52CC-0576-453B-8278-38BC76F7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16F7-A19F-4B2C-8887-32E3F6B7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6159E-66F3-4A53-BC56-3C3B76F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179D-E43B-4128-8C88-58AE780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5B91-D914-448C-86E8-6489276C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9D6C0-0B9B-4FFF-AD7E-8806E113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3BB-AF86-450A-B7E8-7932E8CB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0852A-37F8-4875-9758-979079EB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B4EF-AAB8-4DF3-9C7F-9EBCC824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2AA80-1A1C-48FA-9D86-6E1AE4F9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51594-4688-4A5E-86C8-54FE45FB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8C592-4FCA-42C3-A47C-31102CA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45D86-6FA4-43C8-BF0F-C752A2D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0C8F-742C-4BC4-A5D8-966619F4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F8669-41E4-4263-BA2A-94A4EE5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9E17-AB6A-4C40-AA34-6C04013C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2532-2AA6-4D45-B034-079A846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297-9FB9-4CDE-B7C1-05EE3422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C080-047B-454A-894A-5E11C2F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F7B30-A9CE-4802-AA84-8BE2C8BB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EDAB-3558-48BB-A978-82B9400E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4FE6-CBDE-48A8-AA91-D5E291F5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87FD0-A68F-4C5A-AD95-F3178E2C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1A60E-F049-483C-8825-08BF01F0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D266-966D-4E58-A15C-03C47782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DE95-4A7C-4B73-9AA1-831B492B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8C6D6-072C-4454-ACD6-FF182A5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338F-DB7E-4ADD-99CB-3AB6E0F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445-3535-4A92-B51E-D4BE598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903E-E55B-4E33-925C-35C1E97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1048-65A1-4F73-80CA-5C86452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5CAA-BF8D-4DB3-BD29-610933DA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A249F-E4D0-4155-8183-8A3B43AF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AD95-4E6C-4276-AC74-DAD88C06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7474-E71A-42DB-B194-B0D52450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E138D-338C-40AA-AA4A-ECC7BD29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26EB-0442-4B0E-85F3-49CBAFC1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1C2CA-FB39-4207-8D56-E29C55AA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9D9B-3EDE-4EC0-8690-882E9BE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7E2-4DDF-4EA4-B48E-79C96B4F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8FA8B-29D8-4CAA-8000-2FF3B5C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3C538-4660-4595-9013-EF4CAD7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C8190-5A1F-4E83-A5B9-F604BE38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29E06-8B3B-44EB-A639-CFD75B5E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B0BA2-9150-480B-BC84-0CAE309D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1B2AE-6B27-4349-855A-9A6965FD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5144-42AD-4E06-AD27-A16F1377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610EC-4B99-4B74-A480-EC92A947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59A08-6AAC-48AD-BCAE-3CDDC1BD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ECE1E-01F8-4E8D-B136-0273838F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AC50-9980-4AEC-B504-06843D388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8EEF-9D36-4889-8AA5-D0CF3C64D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A6E4-7B8D-4E3F-B669-B0A8671FF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5150-7528-4EE6-88C7-745E7DF9A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3EBB-A757-4E92-97BC-59C3446F1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269D-EB3A-439D-8AAA-8B61169E91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F69E-F624-4BB2-851A-BB0962C8D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4FC-CBC7-430A-A1ED-740D2F1DE9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6583-F225-4D00-8B13-7E3119784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B74-4A0E-467D-8C70-D3A5D64B1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EC46-F234-4B01-B48B-BDF89D88C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5836-6007-4F21-B9A2-3F15E92ABD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420-0EE2-498F-A036-675CCB9D0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DE3D-4A6E-481B-91B3-6F1DC9499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AC3-BB20-4C68-9306-D54CE0A2E0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1CD4-83AC-43E5-AC8C-73BFA462BB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9B2-9A15-46FB-8D30-6DB31842C8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AF7B-9075-48E9-B940-0FD1E1676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3DBB-8613-453A-941B-B73258C71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2A9-6D4B-45F2-922F-64126258E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3CB-2A5D-400C-B3CE-7D8E98E6D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263-E7B6-4873-9ECC-90F7F6B33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60C6-989D-43A3-8DA8-8843A8F9F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C9D2-60E3-4022-8829-C851D9DD9B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9AC3-A84E-4116-9B56-F8508FEEF5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6946-BCB3-4C1A-A7D3-7437AD602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7C50-E2A0-4E94-807E-97AF30BC7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3349-3E92-4C5C-BEB0-BFC2BD8E53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374F-7E8A-4ABD-984A-6C5CE9127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C0DC-CBA8-4C03-BA07-7DE64086E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AA9-A525-4A08-9B85-4640D7CCB5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27FE-79D8-42BD-B507-931EAA1DA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7CF7-2365-4085-92BE-B4908E5D1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94C5-0E8C-4890-9E66-690FB2F6A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8E6C-4379-4A26-B50F-A3E10A583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245-132E-4583-8BC2-9E4D5628D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0FD4-537F-48AD-A473-D79DCD26BC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9DF-6FD2-4B45-84D1-2E1016816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B44A-76BE-4227-9FE2-A1BE11190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E77F-B3F7-460C-89C7-AEB00CAF6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00200" y="3009960"/>
            <a:ext cx="5943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585720" y="2062080"/>
            <a:ext cx="7972560" cy="2733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3"/>
          <a:stretch/>
        </p:blipFill>
        <p:spPr>
          <a:xfrm>
            <a:off x="6948360" y="35733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68609" descr=""/>
          <p:cNvPicPr/>
          <p:nvPr/>
        </p:nvPicPr>
        <p:blipFill>
          <a:blip r:embed="rId1"/>
          <a:stretch/>
        </p:blipFill>
        <p:spPr>
          <a:xfrm>
            <a:off x="266760" y="276120"/>
            <a:ext cx="8610480" cy="63057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826920" y="4610160"/>
            <a:ext cx="4608720" cy="493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755640" y="5372280"/>
            <a:ext cx="813744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866880"/>
            <a:ext cx="8553600" cy="5124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4653000"/>
            <a:ext cx="367164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504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47640" y="2014560"/>
            <a:ext cx="7848720" cy="28288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475308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4753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24000" y="914400"/>
            <a:ext cx="8496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7352" descr=""/>
          <p:cNvPicPr/>
          <p:nvPr/>
        </p:nvPicPr>
        <p:blipFill>
          <a:blip r:embed="rId1"/>
          <a:stretch/>
        </p:blipFill>
        <p:spPr>
          <a:xfrm>
            <a:off x="1123920" y="1233360"/>
            <a:ext cx="6896160" cy="4391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39607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39607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71640" y="3429000"/>
            <a:ext cx="712944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900000" y="4149720"/>
            <a:ext cx="712944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826920" y="4883040"/>
            <a:ext cx="7129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3714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971640" y="3213000"/>
            <a:ext cx="7848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000080" y="3933720"/>
            <a:ext cx="784872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00000" y="4667400"/>
            <a:ext cx="784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290520" y="1333440"/>
            <a:ext cx="8562960" cy="4191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403280" y="3616200"/>
            <a:ext cx="3816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258920" y="4292640"/>
            <a:ext cx="76341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4276" descr=""/>
          <p:cNvPicPr/>
          <p:nvPr/>
        </p:nvPicPr>
        <p:blipFill>
          <a:blip r:embed="rId1"/>
          <a:stretch/>
        </p:blipFill>
        <p:spPr>
          <a:xfrm>
            <a:off x="642960" y="1728720"/>
            <a:ext cx="7858080" cy="3400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042920" y="3876840"/>
            <a:ext cx="763272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2231" descr=""/>
          <p:cNvPicPr/>
          <p:nvPr/>
        </p:nvPicPr>
        <p:blipFill>
          <a:blip r:embed="rId1"/>
          <a:stretch/>
        </p:blipFill>
        <p:spPr>
          <a:xfrm>
            <a:off x="271440" y="1281240"/>
            <a:ext cx="8601120" cy="4295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76364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1763640" y="48546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248436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248436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2484360" y="48546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3233880" y="3068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3233880" y="393372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3233880" y="48546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1"/>
          <a:stretch/>
        </p:blipFill>
        <p:spPr>
          <a:xfrm>
            <a:off x="386712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2"/>
          <a:stretch/>
        </p:blipFill>
        <p:spPr>
          <a:xfrm>
            <a:off x="386712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3"/>
          <a:stretch/>
        </p:blipFill>
        <p:spPr>
          <a:xfrm>
            <a:off x="3867120" y="48546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4"/>
          <a:stretch/>
        </p:blipFill>
        <p:spPr>
          <a:xfrm>
            <a:off x="458784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5"/>
          <a:stretch/>
        </p:blipFill>
        <p:spPr>
          <a:xfrm>
            <a:off x="458784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6"/>
          <a:stretch/>
        </p:blipFill>
        <p:spPr>
          <a:xfrm>
            <a:off x="4587840" y="48546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7"/>
          <a:stretch/>
        </p:blipFill>
        <p:spPr>
          <a:xfrm>
            <a:off x="5380200" y="3068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8"/>
          <a:stretch/>
        </p:blipFill>
        <p:spPr>
          <a:xfrm>
            <a:off x="5380200" y="393372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9"/>
          <a:stretch/>
        </p:blipFill>
        <p:spPr>
          <a:xfrm>
            <a:off x="5380200" y="48546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0"/>
          <a:stretch/>
        </p:blipFill>
        <p:spPr>
          <a:xfrm>
            <a:off x="605628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1"/>
          <a:stretch/>
        </p:blipFill>
        <p:spPr>
          <a:xfrm>
            <a:off x="605628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2"/>
          <a:stretch/>
        </p:blipFill>
        <p:spPr>
          <a:xfrm>
            <a:off x="6056280" y="48546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3"/>
          <a:stretch/>
        </p:blipFill>
        <p:spPr>
          <a:xfrm>
            <a:off x="677700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4"/>
          <a:stretch/>
        </p:blipFill>
        <p:spPr>
          <a:xfrm>
            <a:off x="677700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5"/>
          <a:stretch/>
        </p:blipFill>
        <p:spPr>
          <a:xfrm>
            <a:off x="6777000" y="48546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6"/>
          <a:stretch/>
        </p:blipFill>
        <p:spPr>
          <a:xfrm>
            <a:off x="749772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7"/>
          <a:stretch/>
        </p:blipFill>
        <p:spPr>
          <a:xfrm>
            <a:off x="7497720" y="3933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8"/>
          <a:stretch/>
        </p:blipFill>
        <p:spPr>
          <a:xfrm>
            <a:off x="7497720" y="485460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5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